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C0E-FD68-47D3-8560-743DB391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8D4-9EAC-4CA1-A759-17BB5784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7CA-4EAE-4254-9EF8-224F7A88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F58-3B68-4B56-B73D-A22B557C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5C39-0585-4C2F-B0C0-1E89FDB8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5385-E172-4313-808F-0DA7898F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2A2E-12F5-4C49-97EB-D1CAD68C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E07C-BDDB-4EF1-8576-38C7CE49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AB0D-6B92-4080-9FA0-B1AF1E42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DBAF-9E85-40F1-BFF8-1671488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181-9812-490F-A852-6C5E7FE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997-B83A-40B3-A449-D9D6A58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EB0C-72C9-47A6-9828-E22CE7A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2FEE-A503-4AA5-98D3-DAC22F6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6F88-52DA-40AF-9593-213A18A0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542F-5D12-4F83-9EF0-1E19A9D9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3DDE-CF1C-4BC4-8514-108364A6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D57-6A6D-4632-8097-5C641A7B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935-F5DD-4D07-85A7-8503292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93D-53F7-41D0-BB21-12622A84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F6D-69E3-43B5-8F0C-7DF53AED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CFD-8C91-4F5A-B5F3-A515BA6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5AF-517F-4A4C-8A52-E32CCDFF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D67-FAD0-4642-ACF2-99EFDC47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CF0-BDE5-49EE-A7AB-EC40F3776D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FDBB-0DFC-49D1-983D-B357E081E4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Международный стандарт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ИСО/МЭК 17025 (ISO/IEC 17025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бласть приме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ормативные ссы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Термины и опред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.Требование к управл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Технические треб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Консуль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Ценность аккредитированного стату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умент об аккредитации может оцениваться той пользой, которую система менеджмента качества (к которому он относится) принесёт её владель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польза не значительна, то нам удалось построить лишь систему менеджмента бумаг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75520" y="2052720"/>
            <a:ext cx="1909800" cy="1839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4114800"/>
            <a:ext cx="2362320" cy="2216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726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Что помогло такому большому количеству творчеств человеческих рук пережить разные эпохи, противостоять векам; что помогло человечеству, даже в самых диких временах сохранить их от разрушения? Это – качество»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мас Ман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74674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86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едение Структура, Система качест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документацией, Анализ запросов, заявок на подряд и контрактов, Заключение субподрядов на проведение испытаний и поверок, Приобретение услуг и запасов, Обслуживание кли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.Общие требования к компетентности испытательных лаборатор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38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тензии. Управление несоответствующей работой по испытаниям и/или поверкам, Корректируюшее действие. Управление регистрацией данных, Внутренние проверки, Анализы со стороны руководст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е описание технических требований, Персонал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6800"/>
            <a:ext cx="739116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ещения и условия окружающей среды, Методы испытаний и поверок, оценка пригодности метод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рудование, Прослеживаемость измер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четность о результа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6800"/>
            <a:ext cx="762012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21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и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процес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ение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общее управление качеств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77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3.Общие требования к компетентности испытательных лабораторий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828800"/>
            <a:ext cx="750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нтроль качества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819520"/>
            <a:ext cx="18288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114800"/>
            <a:ext cx="2057400" cy="825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ение, контроль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8195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819520"/>
            <a:ext cx="2133720" cy="533160"/>
          </a:xfrm>
          <a:prstGeom prst="rightArrow">
            <a:avLst>
              <a:gd name="adj1" fmla="val 50000"/>
              <a:gd name="adj2" fmla="val 1000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854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рьё, энерг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029200"/>
            <a:ext cx="609480" cy="781200"/>
          </a:xfrm>
          <a:prstGeom prst="downArrow">
            <a:avLst>
              <a:gd name="adj1" fmla="val 50000"/>
              <a:gd name="adj2" fmla="val 320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0" y="5791320"/>
            <a:ext cx="1447920" cy="642600"/>
            <a:chOff x="4572000" y="5791320"/>
            <a:chExt cx="1447920" cy="642600"/>
          </a:xfrm>
        </p:grpSpPr>
        <p:sp>
          <p:nvSpPr>
            <p:cNvPr id="122" name=""/>
            <p:cNvSpPr/>
            <p:nvPr/>
          </p:nvSpPr>
          <p:spPr>
            <a:xfrm>
              <a:off x="4876920" y="579132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5867280"/>
              <a:ext cx="144792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257800" y="3276720"/>
            <a:ext cx="15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819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ые данные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кт услуга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76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3.Общие требования к компетентности испытательных лаборатор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157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ие качест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28600"/>
            <a:ext cx="7477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3520" y="1828800"/>
            <a:ext cx="750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905120"/>
            <a:ext cx="18288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666880"/>
            <a:ext cx="2057400" cy="825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ение, контроль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051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905120"/>
            <a:ext cx="2133360" cy="533160"/>
          </a:xfrm>
          <a:prstGeom prst="rightArrow">
            <a:avLst>
              <a:gd name="adj1" fmla="val 50000"/>
              <a:gd name="adj2" fmla="val 10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362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257800"/>
            <a:ext cx="609480" cy="781200"/>
          </a:xfrm>
          <a:prstGeom prst="downArrow">
            <a:avLst>
              <a:gd name="adj1" fmla="val 50000"/>
              <a:gd name="adj2" fmla="val 320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505320" y="6019920"/>
            <a:ext cx="1447560" cy="642600"/>
            <a:chOff x="3505320" y="6019920"/>
            <a:chExt cx="1447560" cy="642600"/>
          </a:xfrm>
        </p:grpSpPr>
        <p:sp>
          <p:nvSpPr>
            <p:cNvPr id="138" name=""/>
            <p:cNvSpPr/>
            <p:nvPr/>
          </p:nvSpPr>
          <p:spPr>
            <a:xfrm>
              <a:off x="3809880" y="60199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05320" y="6095880"/>
              <a:ext cx="144756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62520" y="2362320"/>
            <a:ext cx="15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3809880"/>
            <a:ext cx="2285640" cy="1377720"/>
            <a:chOff x="3048120" y="3809880"/>
            <a:chExt cx="2285640" cy="1377720"/>
          </a:xfrm>
        </p:grpSpPr>
        <p:sp>
          <p:nvSpPr>
            <p:cNvPr id="142" name=""/>
            <p:cNvSpPr/>
            <p:nvPr/>
          </p:nvSpPr>
          <p:spPr>
            <a:xfrm>
              <a:off x="3779280" y="42030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Хорошо?</a:t>
              </a:r>
              <a:r>
                <a:rPr b="0" lang="hu-H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3809880"/>
              <a:ext cx="2285640" cy="13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44" name=""/>
          <p:cNvCxnSpPr/>
          <p:nvPr/>
        </p:nvCxnSpPr>
        <p:spPr>
          <a:xfrm rot="10800000">
            <a:off x="2133000" y="3809160"/>
            <a:ext cx="1014840" cy="681840"/>
          </a:xfrm>
          <a:prstGeom prst="bentConnector3">
            <a:avLst>
              <a:gd name="adj1" fmla="val 51312"/>
            </a:avLst>
          </a:prstGeom>
          <a:ln w="2556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45" name=""/>
          <p:cNvSpPr/>
          <p:nvPr/>
        </p:nvSpPr>
        <p:spPr>
          <a:xfrm>
            <a:off x="228600" y="3200400"/>
            <a:ext cx="1905120" cy="119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ректи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ющее действие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8080" y="2743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7432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352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2320" y="2437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581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т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ahoma"/>
              </a:rPr>
              <a:t>3.1.Необходимые стандар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О системах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0    Терминология и основ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1    Треб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4    Улучш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19011  Проверка (ауди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О лаборатор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ИСО МЭК 17025  Требования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380880"/>
            <a:ext cx="81360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ahoma"/>
              </a:rPr>
              <a:t>3.1.Необходимые стандар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МЭК 17025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аменяет руководство ИСО/МЭК 25 и европейский стандарт ЭН 45001 (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4500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дел 4 относится к менеджменту (управлению), а раздел 5 к лабораторным испытаниям и / или повер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 содержит элементы ИСО 9001 и ИСО 9002, 9000:2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ак достичь аккредитации на международном уровне?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ём подготовки специалистов из  лабораторий и из национальной организации по аккреди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ём проведения анализа лаборатории на соответствие требованиям стандарта ИСО/МЭК 17025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овать анализ профессиональной опытности с участием выбранных лаборатор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3.2. Осн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в</a:t>
            </a: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ные понят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(аудит) ~ поверка (слич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сличение (эталон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анализ (со стороны руковод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менеджмент (кач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верификация ~ валида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испытание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imes New Roman"/>
              </a:rPr>
              <a:t>Проверка (аудит) ~ поверка (сличение</a:t>
            </a:r>
            <a:r>
              <a:rPr b="1" lang="ru-RU" sz="3600" spc="-1" strike="noStrike">
                <a:solidFill>
                  <a:srgbClr val="e5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Прове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Обш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любая деятель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чтобы убедиться в правильности чего-либо или в соответствии чему-либо (осмотр, испытание);тоже самое как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В области менеджмента качества (аудит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совокупность дейсвий для определения соответствия системы качества стандарту ИСО 9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imes New Roman"/>
              </a:rPr>
              <a:t>Проверка (аудит) ~ поверка (сличение</a:t>
            </a:r>
            <a:r>
              <a:rPr b="1" lang="ru-RU" sz="3600" spc="-1" strike="noStrike">
                <a:solidFill>
                  <a:srgbClr val="e5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302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Tahoma"/>
              </a:rPr>
              <a:t>Поверка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средств измерения-определение погрешностей и установление их пригодности к применению соответствия классу точности (для точного определения см.МС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Сличен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Обшее 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Сравнение, сопоставление и установление сх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В метр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Сличение эталонов:сравнение отк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нений эталонов от их номинальных знач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Анал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Обш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определение состава и свойств какого-либо вещества (хим.анализ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В переносном смысле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Разбор, рассмотрение чего-либ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В области менеджмента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анализ со стороны руководства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-рассмотрение руководством состояния и функционирования системы качества, по определенным в ИСО 9001 правил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Менеджмен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В толковых словарях русского языка такого слова н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 дословный перевод английского выражения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Management”, которое обозначает систему управления предприятием с целью обеспечений качества, согласно ИСО 9001. Из этого вытекает, что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это не управление качеством, а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управление предприятием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( с целью обеспечения осуществления запланированного кач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Продук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Общ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. Предмет, как результат человеческого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Продукция, следствие, результат чего-либо (в переносном смысл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В облас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а качества 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предметы и/или услу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KZ Times New Roman"/>
              </a:rPr>
              <a:t>В области технического рег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KZ Times New Roman"/>
              </a:rPr>
              <a:t>Результат процесса или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Оценка соответствия (верификация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609640"/>
            <a:ext cx="822960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онтроль и/или потверждение соответствия требован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 напр. Стандарта,заказа и т.п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49160"/>
            <a:ext cx="822960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Оценка пригодности (валидация)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920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онтроль и/или потверждение пригодности к назна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Подготовленност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подготовленности персон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верка </a:t>
            </a: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совпадения результатов испытаний, проведенных в разных лаборатор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Межлабораторные срав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Что такое: аккредитация?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192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дура, посредством которой орган по аккредитации официально признает правомочие юридического лица выполнять работы в определенной сфере по подтверждению соответствия объектов технического регулирования установленным требован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ь аккредитации – улучшение качества работы органов по подтверждению соответствия и испытательных лабораторий и подтверждение их правомочности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1. Область распространения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ндарт распростран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деятельность организаций, проводящих испытания и /или поверки (включая отбор образц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лаборатории, являющие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ой стороной – сам изготовитель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торой стороной – покупатель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тьей стороной – независимая лаборатория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1. Область распростран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ытания /поверки могут составлять часть контроля качества и сертификации проду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стандарту ИСО / МЭК 17025 обеспечивает соответствие стандарту ИСО 9001 или ИСО 9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0800" y="380520"/>
            <a:ext cx="8136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2. Нормативные ссылки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3. Термины и определ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0 Системы  менеджмента качества. Основные положения и слов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1 Системы менеджмента качества. Треб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4:2000 Системы менеджмента качества. Рекомендации по улучшению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ство ИСО/МЭК 2. Общие термины и определения в области стандардизации и смежных видов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М 1993 Международный словарь основных и общих терминов метролог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МЭК 17000 Оценка соответствия Словарь и общие принци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влетворить требованиям стандарта, потребностям клиента и требованиям органов в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должно охватывать работы, выполняемые на своей территории, в удалённых местах и на времённых передвижных точ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ответственность руководящего персонала, и в случае осуществления деятельности, отличную от испытаний и / или поверок, избежать конфли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олагать руководящим и техническим персоналом, имеющим необходимое полномочие, выявить случаи откло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228600"/>
            <a:ext cx="7386840" cy="59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рганизационную структур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обеспечивающую независимость персонала от внутренних и внешних дав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процедуру п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щите дан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 клиентах, на любых носителя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процедуры, обеспечивающую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ъекти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определение круг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етен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образованный персонал и документировать повышение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ответственн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 качеств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с определённым кругом ответственности и компетенции подчинённый непосредственно высшему руководител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тановить порядок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мещ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2 Система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качества должна соответствовать области распростра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документированные процедуры для обеспечения качества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должны быть известны и поняты тем, к кому они относятся, они были им легко доступы и выполняться 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2 Система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руководство по качеству, в котором изложены цели, основные принципы, указаны ссылки на процедуры, структура документации, задачи руководителей; его содержание должно актуализировать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декларацию высшего руководства о политике по качеству, с указанием целей и стремлен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сновные принципы аккредитац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во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етен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дискримин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фиденци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диные требования к обязательной и добровольной сфере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кредитация имеет силу на 3 года, при условии проведения ежегодного инспекционного контр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требование по аккредитации  - соответствие стандарту ИСО/МЭК 170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кумен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ивы, процедура, спецификация, таблица для поверки, график, текст,  сообщение, запись, софтвер, чертёж, план и.т.д. Они могут быть на любом носителе данных, в напечатанном виде или в электронной форме, являются  аналогами, в виде фото или в письменном виде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контроля документов нужна для внутренних и внешних док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надо контролировать до их подтверждения и выпус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для регистрации, идентификации пересмотренного статуса, предупреждения использования недействительных или устаревших документ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должны быть доступны там, где происходит основная деятельность для функцион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документ должен быть идентифицирован индивидуально, должен содержать дату выпуска и пересмотра, конца, документацию страниц, общее число страниц или отметка конца документа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7386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, изменения в докумен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ённые документы должны быть проверены и подтверждены точно так, как оригин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ь изменения должна быть объяснена в самом документе или в его прилож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я можно вносить и от руки, если внутренний порядок разрешает э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а внесения изменений в документы и их контроля, храняющиеся в компьютерных системах должны быть установлены в процедуре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8648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4 Анализ запросов, заявок на подряд и контра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для анализа запросов, заявок на подряд и контракт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о обеспечить составление документов согласно требованиям, доступность, наличие ресурсов (физических, людских и информационных) и подходящих методов по запросам заказ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7386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4.Анализ запросов, заявок на подряд и контра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ые различия между запросом или заявкой на подряд и контрактом должны быть улажены до начала работ или клиент должен быть информирован об отклон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ализ должен охватывать межлабораторные программы поверки, круговые испытания и.т.д., с целью определения предела выявления и диапазона надёжности, деятельности по субподряд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лучае изменений в контракте или заказе контроль должен быть повторен и все заинтересованные лица должны быть информиров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5. Заключение субподрядов на проведение испытаний и пове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выбрать компетентного, проверенного субподряд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возможности просить письменного согласия заказ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несёт ответственность и за работу, выполненную подрядчико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учёт о подрядчика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иметь запись о всех испытаниях / поверках, выполненных подрядчи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6. Приобретение услуг и зап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по выбору и приобретению услуг и запасов, влияющих на качество (на заказ, приёмку, хранение и сервис расходуемых материалов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обеспечить входной контроль до использования материал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ие услуг должно быть проверено и документирова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7386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6 Приобретение услуг и зап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упочная документация на изделия, влияющие на качество, должна содержать параметры качества изделий. Их выбор подлежит проверке и подтверждению до выдачи заказ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оценить поставщиков и документировать результаты оцен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составить перечень утверждённых поставщ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7. Обслуживание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обеспечить возможность участия клиентов 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ъяснении запроса клиен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ах, связанных с выполняемой работ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ах контроля функционирования лаборатории, разрешить доступ к испытаниям, проводимым для клиен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то имеет право производить аккредитацию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?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86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кредитация производится внешней, независимой, уполномоченной на государственном уровне организацией в соответствии с международными нормами - Комитет по техническому регулированию и метр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АК – Международная Организация Сотрудничества по Аккредитации Лаборато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7386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7. Обслуживание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одготовке, упаковке и отправке образц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мен информацией должен бы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ен, и обратная связь должна быть обеспечена во время все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ую информацию (положительную и отрицательную) следует использовать для улучшения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3864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8. Претен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процедуру и правила по разрешению претензий со стороны клиентов и других сторон. Записи надо сохран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9 Контроль несоответствующей работы по испытаниям и повер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процедуру по принятию мер в случае несоответствия собственным процедурам или согласованным с клиентом требован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дура должна содержать ответственность за принятия мер, оценку значимости несоответствия, условия принятия корректирующих действий, критерии приемлемости, извещения клиента и возобновления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0 Корректиру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разработать процедуру по корректирующим действ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определить причины несоответствия. (Возможные причины – требования клиента, образцы и их спецификации, методы, процедуры, квалификация и опыт персонала, материалы, инструмент и его поверка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0. Корректирующее 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действия должны соответствовать масштабу проблем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действия должны подвергаться контро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масштаб несоответствия угрожает достижения целей лаборатории, то необходимо провести дополнительные прове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1. Предупреждающее 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выявить возможности развития технических систем и систем качества, а также идентифицировать причины несоответствий для того, чтобы лаборатория могла определить подходящее предупреждающее действ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запланировать, а его выполнение  - контролиро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ающее действие может включить анализ данных, анализ тенденций и риска а также результаты оценок опы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2. Управление регистрацией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установить процедуру по идентификации, сбору, индексированию, доступу, систематизации, хранению, ведению и изъятию регистрационных данных по качеству и техническим вопрос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лжны быть установлены сроки хранения и обеспечена конфиденциа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7386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2. Управление регистрацией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по защите и восстановлению данных на электронных носителях и для предупреждения несанкционированного доступа или внесения изменений в н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и должны содержать всю информацию, необходимую для повторения испытаний и повер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ники, ответственные за эту деятельность должны быть определ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386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ические записи (первичные данные, источни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данные, информация, накопленные в ходе испытаний /поверок, которые показывают, достигнуты-ли определённые параметры по качеству или метод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охватыв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чатные материалы, контракты, записи и тетради о выполненных работах, контрольные карточки, промежуточные записи, контрольные диаграммы, заключения внутренних и внешних испытаний, сертификаты, записи клиента, письменные и устные сообщения, протоколы испытаний и поверок, посланные клиен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равление, вносимые в записи, должны быть подписаны, с указанием даты; ошибка должна остаться разбирае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ариант № 1: Создать международную организац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302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бле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жегодные совещ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ленские вн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юрокр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олетние диску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ездка  на совещание дор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народная  группа поедет в каждую страну поверить лаборатор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Е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3. Внутренние провер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периодически, с предварительно установленным графиком и процедурой проводить внутренние проверки функционирования системы качества и соответствия стандар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явленные недостатки и необходимые меры должны быть зарегистрированы. Выполнение предусмотренных мер должно проверяться зафиксировано в документе, их эффективность также должна быть опреде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7386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о всех несоответствиях, которые угрожают точность результатов испытаний / поверок необходимо информировать клиента.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4. Анализ со стороны руко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оответствии с предварительно установленным графиком и процедурой руководство должно периодически проводить анализ деятельности по проведению испытаний / поверок для обеспечения соответствия, эффективности и проведения необходимых изменений и улуч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7386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лиз должен учиты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дность политики и процед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чёты руководящих и контролирующих сотрудни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зультаты последних провер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и предупреждающие действ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ценки проведённые сторонними органам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зультаты межлабораторных сравнений или оценок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я объёма и вида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ую связь от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тен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 факторы контроля и подготовку персонала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ариант № 2:  создат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36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национальные системы для аккредитации лаборато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пусть они признают друг друга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Национальные систем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ловие применимости варианта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инаковый подход в каждой стра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этого нужен международный стандар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АК разработал проек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издал «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uide 2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 МЭК 17025:199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 МЭК 17025: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усть они признают друг друг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269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облегчения обоюдного призн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АК стал Международным Сотрудничеством по Аккредитации Лабораторий (Конференция – Кооперац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АФ: Международный Форум по Аккреди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разрабатывают рекомендации для облегчения взаимного приз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ение: правительства заключают соглашения о взаимном признании лабораторий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55:01Z</dcterms:created>
  <dc:creator>Parkany Mihaly</dc:creator>
  <dc:description/>
  <dc:language>en-US</dc:language>
  <cp:lastModifiedBy>User</cp:lastModifiedBy>
  <cp:lastPrinted>2005-03-28T07:13:56Z</cp:lastPrinted>
  <dcterms:modified xsi:type="dcterms:W3CDTF">2006-09-13T12:27:24Z</dcterms:modified>
  <cp:revision>44</cp:revision>
  <dc:subject/>
  <dc:title>Курс семинара для специалистов лаборатории по качеству « Международный стандарт ИСО/МЭК 17025 (ISO/IEC 17025): Общие требования к компетентности испытательных и поверочных лабораторий» проведенного Международным Торговым Центром (UNCTAD/WTO) как часть проекта «Продвижение Торговли в Казахстане и  в Кыргызии»  30 марта 2005 года, г.Алматы и г. Бишкек Элизабет Паркань Марта Паполци Инженер химик  Инженер механик Консультанты по ИСО/МЭК 17025:199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